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72782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643-C0DB-4677-B8B0-FFF25F82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763-BC74-4A0D-9EC8-0532D0E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403-7A9F-436C-A4E0-138DD48A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AA6-6803-448D-85B1-3C1BFFC9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13AB-D60F-4E94-8F2A-6CD5876E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004B-F76E-43E1-92D9-1917BD6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C08B-BA5D-4A70-AEDB-90582EDC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485A-7018-4457-8FDA-0E4012F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FFF-B1CA-44EA-A218-50B6674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732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79A3-89BF-4FF5-9270-9EE1ED5E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55B6-D1EC-4ACC-AD46-3F285CF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472-831E-4E75-86C2-C530A3C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4DF-0333-459D-8ADC-85D8A7C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C33-07B6-4C41-88EC-976BDBD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A9F8-D3FB-4163-8F97-5909AE4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A052-81E4-4A78-BE83-1DAB24C4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A388-2859-428D-9F6C-BBACFF52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2A2-F367-4F02-83CC-D44D1E99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6F2-FB16-460D-A06E-57A141A4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C41-1787-4FBF-ABD9-AE44677F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32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239-7C1F-4CD2-91DA-F8F4493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6D2-DBD7-42B2-A122-046E8F6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CE0-BC48-42B1-9C24-5BDE6DC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D9B-7BF9-4A40-A022-BCF5907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8E94-312B-475F-AEC8-2AC8FF273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62268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938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6C22-0BA9-4837-A7B8-E41680A02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62268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952880" y="3809880"/>
          <a:ext cx="47847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809880"/>
                    <a:ext cx="47847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89000" y="533520"/>
          <a:ext cx="4763880" cy="30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533520"/>
                    <a:ext cx="47638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31840" y="679320"/>
          <a:ext cx="4716360" cy="29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840" y="679320"/>
                    <a:ext cx="471636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0880" y="762120"/>
            <a:ext cx="12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c. 97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60020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7,6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37160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8,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346480"/>
            <a:ext cx="609840" cy="24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,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514600"/>
            <a:ext cx="609480" cy="2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,7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590920"/>
            <a:ext cx="609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,5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590920"/>
            <a:ext cx="609840" cy="243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7,8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87800" y="706320"/>
          <a:ext cx="4765680" cy="28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87800" y="706320"/>
                    <a:ext cx="476568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019920" y="166068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4,9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137160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5,1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0" y="1981080"/>
            <a:ext cx="533520" cy="24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9,4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67680" y="2286000"/>
            <a:ext cx="533520" cy="2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,1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2590920"/>
            <a:ext cx="685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0,7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651040"/>
            <a:ext cx="685800" cy="243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4,8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3809880"/>
          <a:ext cx="4749840" cy="281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3809880"/>
                    <a:ext cx="47498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0880" y="3886200"/>
            <a:ext cx="12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c. 99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55616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0,6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34340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7,9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572000"/>
            <a:ext cx="609480" cy="24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0,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5257800"/>
            <a:ext cx="533520" cy="2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,4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562720"/>
            <a:ext cx="609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1,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562720"/>
            <a:ext cx="609840" cy="243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3,7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388620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c. 0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57200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8,1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4343400"/>
            <a:ext cx="6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4,6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86800" y="4191120"/>
            <a:ext cx="533520" cy="24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9,6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067680" y="4495680"/>
            <a:ext cx="533520" cy="2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,5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91720" y="5334120"/>
            <a:ext cx="6094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1,2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5699160"/>
            <a:ext cx="761760" cy="243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0,0%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79200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c. 98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9960" y="152280"/>
            <a:ext cx="920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ff"/>
                </a:solidFill>
                <a:latin typeface="Tahoma"/>
              </a:rPr>
              <a:t>EVOLUCIÓN DEL PATRIMONIO DE LOS FONDOS DE INVERS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881920" y="6553080"/>
            <a:ext cx="947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0000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Photina Casual Black"/>
              </a:rPr>
              <a:t>inverco</a:t>
            </a:r>
            <a:endParaRPr b="0" i="1" lang="en-US" sz="2000" spc="1" strike="noStrike">
              <a:ln w="3240">
                <a:solidFill>
                  <a:srgbClr val="0000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Photina Casual Black"/>
              <a:ea typeface="Photina Casu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638360"/>
          <a:ext cx="9906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8360"/>
                    <a:ext cx="9906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8600" y="457200"/>
            <a:ext cx="952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00ff"/>
                </a:solidFill>
                <a:latin typeface="Tahoma"/>
              </a:rPr>
              <a:t>ÍNDICES FONDOS DE INVERSIÓN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14:55:04Z</dcterms:created>
  <dc:creator>PACO</dc:creator>
  <dc:description/>
  <dc:language>en-US</dc:language>
  <cp:lastModifiedBy>PACO</cp:lastModifiedBy>
  <cp:lastPrinted>2001-01-19T11:34:48Z</cp:lastPrinted>
  <dcterms:modified xsi:type="dcterms:W3CDTF">2001-01-19T13:51:50Z</dcterms:modified>
  <cp:revision>283</cp:revision>
  <dc:subject/>
  <dc:title>PRESUPUESTO DE INGRESOS DE LA SEGURIDAD SOCIAL</dc:title>
</cp:coreProperties>
</file>